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0858-A49D-43BD-9FA1-4CAF380F0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FCB6-032D-4406-86AD-A8C44A02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60EC-15F0-4F08-B708-02B8DCC29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1170-142A-4CC8-ABB7-6323028A0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785D-712F-49D1-A5DD-B6F23B0A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3ECC-4DCD-446D-92D0-308AA4FD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B3E4-1335-4030-9D01-DE2B80D4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9C40-FAE6-49D7-A0B9-C0A0083E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D33D-A3E7-40F9-B63C-943A0883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B152-E2CD-445D-B145-2557EFDA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3FDE-1611-41AC-8A6A-309F478E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42B7-43E0-46B7-8E40-DF23CFD9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71746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A5C4-B0BF-4BC4-B197-19C5F0331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71746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rst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52480" y="297144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r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words and phrases that are associated with the character you have been assig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211140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71746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rading C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8120" y="1676520"/>
            <a:ext cx="533376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r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will create your own trading card for your assigned charac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n the trading card document in the student activities fo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the requested information to the bottom of their trading card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ve the trading card under your last name in the student activities fo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211140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71746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-3808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rading Card Graph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143000"/>
            <a:ext cx="86104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Your Tas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You will create a graphic of your character for your trading car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Choo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57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raw a picture of your character to be scanned into the Trading C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3886200"/>
            <a:ext cx="8686800" cy="41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On a blank piece of paper, brainstorm a way to become or create your character.  Plan how you will make this happen.  Ms. H. will take your photograph (tomorrow) once you have finalized your look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Both Choices:  Write a description of how your picture represents your character.  What information from the novel did you use to help you create the pictur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00008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23:41:22Z</dcterms:created>
  <dc:creator>LaTisha Henry</dc:creator>
  <dc:description/>
  <dc:language>en-US</dc:language>
  <cp:lastModifiedBy>LaTisha Henry</cp:lastModifiedBy>
  <dcterms:modified xsi:type="dcterms:W3CDTF">2005-04-07T00:23:28Z</dcterms:modified>
  <cp:revision>2</cp:revision>
  <dc:subject/>
  <dc:title>First Wor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80785371</vt:r8>
  </property>
  <property fmtid="{D5CDD505-2E9C-101B-9397-08002B2CF9AE}" pid="3" name="_AuthorEmail">
    <vt:lpwstr>henryl@guilford.k12.nc.us</vt:lpwstr>
  </property>
  <property fmtid="{D5CDD505-2E9C-101B-9397-08002B2CF9AE}" pid="4" name="_AuthorEmailDisplayName">
    <vt:lpwstr>Henry, Latisha D.</vt:lpwstr>
  </property>
  <property fmtid="{D5CDD505-2E9C-101B-9397-08002B2CF9AE}" pid="5" name="_EmailSubject">
    <vt:lpwstr>QUEST Lesson #2</vt:lpwstr>
  </property>
</Properties>
</file>